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3D6E-7766-42E2-9849-8C9D12E19D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27AC-71E3-4B26-985F-CB1A9BB81E9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AFA-34CA-43F0-9CF7-2FBAEBB3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D34-D022-46F9-9A14-82B96AEB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2D2-3C2C-4CD2-963C-2CB3A39C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22B-3747-4262-96F5-753DEFD8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DE2-B52F-4E10-AC3A-996384AF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130-E9E9-4B31-BD98-80BCDFE0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5DE-EE08-455D-A099-C6E6D86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DED-2E71-48BE-BA60-DE73D20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FB4-0C72-4D4A-ADBB-E0C02195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99C-18A0-4122-8421-7FF3B9B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F5A-6F83-4276-AD6B-5A65E3A4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2B0-0598-455C-8D91-92CCFDA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4B98-C186-4F63-B6DB-B352DA1F44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0E Constructing non-linear relations and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Graphical representation of relations of the form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ee examples, p.506-507 of textbook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o plot graphs, construct a table of values for the equation and substitute values of x between -5 and 5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use your calculator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1857240" y="2000160"/>
          <a:ext cx="14670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00160"/>
                    <a:ext cx="14670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E, Q.1a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Finding a non-linear relationship using linear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o far, we have produced a table of values from an equation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reverse process is more difficul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the relationship between x and y is of the form                   then plotting  y against       will produce a straight line from the origin. The gradient of this line will be k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785960" y="3643200"/>
          <a:ext cx="14670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643200"/>
                    <a:ext cx="14670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6"/>
          <p:cNvGraphicFramePr/>
          <p:nvPr/>
        </p:nvGraphicFramePr>
        <p:xfrm>
          <a:off x="7429680" y="3714840"/>
          <a:ext cx="50004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9680" y="3714840"/>
                    <a:ext cx="5000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E, Q.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56760" y="285480"/>
            <a:ext cx="8215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The find the rule of a relationship, if the value of n is known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Plot y against       . The result must be a straight line from the origin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Select any two points on the line to calculate the value of the gradient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Since the gradient represents the value of k, substitute it into                 to give the rule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 value of n is not know, plot y against x first. The shape of the graph will indicate the possible values of n. Test it by plotting y against       . If a straight line is produced, proceed as above; otherwise try a different value of n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3071880" y="1143000"/>
          <a:ext cx="438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143000"/>
                    <a:ext cx="438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3571920" y="3500280"/>
          <a:ext cx="12142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3500280"/>
                    <a:ext cx="12142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6858000" y="4857840"/>
          <a:ext cx="4381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857840"/>
                    <a:ext cx="438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E, Q. 1c, d, h, l, 4, 6, 8, 9, 10, 1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2:27:17Z</dcterms:created>
  <dc:creator>08843474</dc:creator>
  <dc:description/>
  <dc:language>en-US</dc:language>
  <cp:lastModifiedBy>08843474</cp:lastModifiedBy>
  <dcterms:modified xsi:type="dcterms:W3CDTF">2011-06-08T05:56:11Z</dcterms:modified>
  <cp:revision>2</cp:revision>
  <dc:subject/>
  <dc:title>10E Constructing non-linear relations and graphs</dc:title>
</cp:coreProperties>
</file>